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wmf" ContentType="image/x-wmf"/>
  <Override PartName="/ppt/media/image17.png" ContentType="image/png"/>
  <Override PartName="/ppt/media/image15.wmf" ContentType="image/x-wmf"/>
  <Override PartName="/ppt/media/image1.png" ContentType="image/png"/>
  <Override PartName="/ppt/media/image9.wmf" ContentType="image/x-wmf"/>
  <Override PartName="/ppt/media/image14.wmf" ContentType="image/x-wmf"/>
  <Override PartName="/ppt/media/image3.gif" ContentType="image/gif"/>
  <Override PartName="/ppt/media/image11.png" ContentType="image/png"/>
  <Override PartName="/ppt/media/image6.wmf" ContentType="image/x-wmf"/>
  <Override PartName="/ppt/media/image16.wmf" ContentType="image/x-wmf"/>
  <Override PartName="/ppt/media/image5.gif" ContentType="image/gif"/>
  <Override PartName="/ppt/media/image7.wmf" ContentType="image/x-wmf"/>
  <Override PartName="/ppt/media/image4.jpeg" ContentType="image/jpeg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A0F-688B-4ADE-AC31-B1B14D1B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FE7-C899-476C-B0F5-C9D3ABE0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47FB-B029-4420-869D-F99D1245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17C-5A15-46B6-93FD-E95E1EE2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E81-5E09-4983-A62D-C1FD8113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B7D-464D-44F9-B406-76935864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3E2-0C2E-4C82-89FA-24E6BCF2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0B67-F65A-47A7-BD5C-2CCD6F9B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5E0B-CA45-4B9D-A1B3-E08C8EBD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FFD-0F66-4568-A15E-39086F0B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B45E-B521-4206-9177-6D963B21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D3C-B2FA-4956-BC15-D8E42E43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0FD3-9D84-43E7-BE2C-D5CAB4FAC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1430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Script MT Bold"/>
              </a:rPr>
              <a:t>Уроки физики в 8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2133720"/>
            <a:ext cx="685800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вление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кристаллизац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2"/>
          <p:cNvSpPr/>
          <p:nvPr/>
        </p:nvSpPr>
        <p:spPr>
          <a:xfrm flipV="1">
            <a:off x="838080" y="457200"/>
            <a:ext cx="0" cy="327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533520" y="2895480"/>
            <a:ext cx="4267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838080" y="114300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1981080" y="2286000"/>
            <a:ext cx="1524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505320" y="2286000"/>
            <a:ext cx="115236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10"/>
          <p:cNvGraphicFramePr/>
          <p:nvPr/>
        </p:nvGraphicFramePr>
        <p:xfrm>
          <a:off x="152280" y="2286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1"/>
          <p:cNvGraphicFramePr/>
          <p:nvPr/>
        </p:nvGraphicFramePr>
        <p:xfrm>
          <a:off x="4038480" y="2514600"/>
          <a:ext cx="757440" cy="30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514600"/>
                    <a:ext cx="7574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14"/>
          <p:cNvSpPr/>
          <p:nvPr/>
        </p:nvSpPr>
        <p:spPr>
          <a:xfrm>
            <a:off x="1909080" y="19810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д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 rot="2783400">
            <a:off x="2985120" y="26546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17"/>
          <p:cNvGraphicFramePr/>
          <p:nvPr/>
        </p:nvGraphicFramePr>
        <p:xfrm>
          <a:off x="1600200" y="457200"/>
          <a:ext cx="266688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457200"/>
                    <a:ext cx="2666880" cy="806400"/>
                  </a:xfrm>
                  <a:prstGeom prst="rect">
                    <a:avLst/>
                  </a:prstGeom>
                  <a:ln w="1908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0" name="Object 18"/>
          <p:cNvGraphicFramePr/>
          <p:nvPr/>
        </p:nvGraphicFramePr>
        <p:xfrm>
          <a:off x="457200" y="3124080"/>
          <a:ext cx="254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1240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3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20"/>
          <p:cNvGraphicFramePr/>
          <p:nvPr/>
        </p:nvGraphicFramePr>
        <p:xfrm>
          <a:off x="380880" y="685800"/>
          <a:ext cx="2826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5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685800"/>
                    <a:ext cx="28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Line 21"/>
          <p:cNvSpPr/>
          <p:nvPr/>
        </p:nvSpPr>
        <p:spPr>
          <a:xfrm>
            <a:off x="685800" y="114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685800" y="2286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762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2134080" y="152388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ыдел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682200" y="342900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вления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тверд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990720" y="2286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1295280" y="2286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1676520" y="2286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22860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26668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3"/>
          <p:cNvSpPr/>
          <p:nvPr/>
        </p:nvSpPr>
        <p:spPr>
          <a:xfrm>
            <a:off x="3048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>
            <a:off x="35053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3"/>
          <p:cNvSpPr/>
          <p:nvPr/>
        </p:nvSpPr>
        <p:spPr>
          <a:xfrm>
            <a:off x="38862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42670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>
            <a:off x="15238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>
            <a:off x="1905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3"/>
          <p:cNvSpPr/>
          <p:nvPr/>
        </p:nvSpPr>
        <p:spPr>
          <a:xfrm>
            <a:off x="11430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4876920" y="380880"/>
            <a:ext cx="4038480" cy="344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.  При охлаждении уменьшается температура жид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.  Скорость движения частиц 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3. Уменьшается внутренняя энергия жид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4.  Когда тело охлаждается до температуры плавления, кристаллическая решетка начинает восстанавлив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5105520"/>
            <a:ext cx="8610480" cy="1373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оличество теплоты, выделяющееся при отвердевании (кристаллизации), равно количеству теплоты, поглощённому при плавл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04920" y="3962520"/>
            <a:ext cx="8624880" cy="947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мпературу, при которой вещество отвердевает, называют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температурой отвердевани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 rot="2783400">
            <a:off x="623160" y="12070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755640" y="2205000"/>
            <a:ext cx="0" cy="3168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539640" y="4510080"/>
            <a:ext cx="7920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"/>
          <p:cNvSpPr/>
          <p:nvPr/>
        </p:nvSpPr>
        <p:spPr>
          <a:xfrm flipV="1">
            <a:off x="755640" y="3718080"/>
            <a:ext cx="115236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1908000" y="37180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 flipV="1">
            <a:off x="3348000" y="2565360"/>
            <a:ext cx="10080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4356000" y="2565360"/>
            <a:ext cx="10080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5364000" y="3718080"/>
            <a:ext cx="1872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>
            <a:off x="7236000" y="3718080"/>
            <a:ext cx="1152360" cy="1223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10"/>
          <p:cNvGraphicFramePr/>
          <p:nvPr/>
        </p:nvGraphicFramePr>
        <p:xfrm>
          <a:off x="57240" y="2147760"/>
          <a:ext cx="627120" cy="3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2147760"/>
                    <a:ext cx="62712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1"/>
          <p:cNvGraphicFramePr/>
          <p:nvPr/>
        </p:nvGraphicFramePr>
        <p:xfrm>
          <a:off x="8278920" y="458136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78920" y="458136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12"/>
          <p:cNvSpPr/>
          <p:nvPr/>
        </p:nvSpPr>
        <p:spPr>
          <a:xfrm>
            <a:off x="1982160" y="335772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 rot="18687000">
            <a:off x="775800" y="434880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439600" y="335772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д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 rot="2783400">
            <a:off x="7000200" y="43153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16"/>
          <p:cNvGraphicFramePr/>
          <p:nvPr/>
        </p:nvGraphicFramePr>
        <p:xfrm>
          <a:off x="1979640" y="2925720"/>
          <a:ext cx="136836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2925720"/>
                    <a:ext cx="13683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7"/>
          <p:cNvGraphicFramePr/>
          <p:nvPr/>
        </p:nvGraphicFramePr>
        <p:xfrm>
          <a:off x="5477040" y="2952720"/>
          <a:ext cx="157608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7040" y="2952720"/>
                    <a:ext cx="15760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18"/>
          <p:cNvGraphicFramePr/>
          <p:nvPr/>
        </p:nvGraphicFramePr>
        <p:xfrm>
          <a:off x="430200" y="4726080"/>
          <a:ext cx="2541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8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0200" y="4726080"/>
                    <a:ext cx="2541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9"/>
          <p:cNvGraphicFramePr/>
          <p:nvPr/>
        </p:nvGraphicFramePr>
        <p:xfrm>
          <a:off x="395280" y="3429000"/>
          <a:ext cx="3096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3429000"/>
                    <a:ext cx="309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20"/>
          <p:cNvGraphicFramePr/>
          <p:nvPr/>
        </p:nvGraphicFramePr>
        <p:xfrm>
          <a:off x="395280" y="2276640"/>
          <a:ext cx="282600" cy="50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2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280" y="2276640"/>
                    <a:ext cx="28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Line 21"/>
          <p:cNvSpPr/>
          <p:nvPr/>
        </p:nvSpPr>
        <p:spPr>
          <a:xfrm>
            <a:off x="684360" y="256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84360" y="501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1290960" y="264312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5581080" y="264312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ыдел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2358720" y="449568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вления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тверд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129528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1676520" y="373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2"/>
          <p:cNvSpPr/>
          <p:nvPr/>
        </p:nvSpPr>
        <p:spPr>
          <a:xfrm>
            <a:off x="990720" y="373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380880" y="457200"/>
            <a:ext cx="8458200" cy="1371600"/>
          </a:xfrm>
          <a:prstGeom prst="rect">
            <a:avLst/>
          </a:prstGeom>
          <a:solidFill>
            <a:srgbClr val="ffffff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Графи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лавления и кристал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7240" y="4952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5320" y="3352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560" y="3733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92560" y="2209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920" y="37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64360" y="3276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82960" y="4800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02960" y="5105520"/>
            <a:ext cx="813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Как изменялась внутренняя энергия ве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и характер движения и взаимодействия молеку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на каждом участке граф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imes New Roman"/>
              </a:rPr>
              <a:t>Запомни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 плавлении происходит разрушение кристаллической решётки. Расстояние между частицами вещества увеличивается. Соответственно увеличивается потенциальная энергия час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 отвердевании вещества происходит образование кристаллической решетки, потенциальная энергия частиц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468360" y="396252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1. В какой момент времени начался процесс плавления веще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57200" y="5257800"/>
            <a:ext cx="640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4. Сколько длилось: а) нагревание твердого тела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б) плавление вещества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с) остывание жидк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5638680" y="64911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4267080"/>
            <a:ext cx="74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2. В какой момент времени вещество кристаллизовало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457200" y="464832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3. Чему равна температура плавления вещества?  Температура кристаллиз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9" descr="pic 5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2895480"/>
          </a:xfrm>
          <a:prstGeom prst="rect">
            <a:avLst/>
          </a:prstGeom>
          <a:ln w="3816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269" name=""/>
          <p:cNvSpPr/>
          <p:nvPr/>
        </p:nvSpPr>
        <p:spPr>
          <a:xfrm>
            <a:off x="375840" y="152280"/>
            <a:ext cx="83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Рассмотрите график и ответьте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12 – 15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тать, отвечать на вопро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пр.8 № 1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37339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  <a:ea typeface="Arial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  <a:ea typeface="Arial"/>
              </a:rPr>
              <a:t>Желаю успехов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62120" y="7650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Агрегатные состояния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Тверд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971800"/>
            <a:ext cx="236232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1828800"/>
            <a:ext cx="236232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Жид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Газообраз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13716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68035" r="30243" b="5292"/>
          <a:stretch/>
        </p:blipFill>
        <p:spPr>
          <a:xfrm>
            <a:off x="6705720" y="3124080"/>
            <a:ext cx="166032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30243" t="30241" r="0" b="34021"/>
          <a:stretch/>
        </p:blipFill>
        <p:spPr>
          <a:xfrm>
            <a:off x="3886200" y="312408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3024" t="0" r="21170" b="65011"/>
          <a:stretch/>
        </p:blipFill>
        <p:spPr>
          <a:xfrm>
            <a:off x="990720" y="3200400"/>
            <a:ext cx="1376280" cy="127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162920" y="13716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7160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362320"/>
            <a:ext cx="486000" cy="761760"/>
          </a:xfrm>
          <a:prstGeom prst="downArrow">
            <a:avLst>
              <a:gd name="adj1" fmla="val 50000"/>
              <a:gd name="adj2" fmla="val 3918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382240" cy="1066680"/>
          </a:xfrm>
          <a:prstGeom prst="rect">
            <a:avLst/>
          </a:prstGeom>
          <a:solidFill>
            <a:srgbClr val="ffffff"/>
          </a:solidFill>
          <a:ln w="3168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Плавление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ход вещества из твердого состояния в жид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80880" y="41148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37339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. 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80880" y="53341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. Изменяются ли молекулы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0880" y="5715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6. Как изменяется температура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жидкость"/>
          <p:cNvPicPr/>
          <p:nvPr/>
        </p:nvPicPr>
        <p:blipFill>
          <a:blip r:embed="rId1"/>
          <a:stretch/>
        </p:blipFill>
        <p:spPr>
          <a:xfrm>
            <a:off x="5334120" y="1752480"/>
            <a:ext cx="2971800" cy="19465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380880" y="495288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. В какой момент  тело начнет плав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 rot="16200000">
            <a:off x="4074840" y="2096640"/>
            <a:ext cx="1009800" cy="1234800"/>
          </a:xfrm>
          <a:prstGeom prst="downArrow">
            <a:avLst>
              <a:gd name="adj1" fmla="val 50000"/>
              <a:gd name="adj2" fmla="val 30570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твердое тело1"/>
          <p:cNvPicPr/>
          <p:nvPr/>
        </p:nvPicPr>
        <p:blipFill>
          <a:blip r:embed="rId2"/>
          <a:srcRect l="4725" t="7559" r="4725" b="4535"/>
          <a:stretch/>
        </p:blipFill>
        <p:spPr>
          <a:xfrm>
            <a:off x="762120" y="1752480"/>
            <a:ext cx="2981160" cy="1951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80880" y="45720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7"/>
          <p:cNvSpPr/>
          <p:nvPr/>
        </p:nvSpPr>
        <p:spPr>
          <a:xfrm>
            <a:off x="5486400" y="2057400"/>
            <a:ext cx="2666880" cy="11912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утренняя энергия жидк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больш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твёрдого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0880" y="60958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7. Сравните внутреннюю энергию твердого тела и жид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52480" y="2362320"/>
            <a:ext cx="1152720" cy="1485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5600" y="2209680"/>
            <a:ext cx="2478960" cy="7038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Те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принимает энерг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2"/>
          <p:cNvSpPr/>
          <p:nvPr/>
        </p:nvSpPr>
        <p:spPr>
          <a:xfrm flipV="1">
            <a:off x="762120" y="45684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 flipV="1">
            <a:off x="457200" y="2971800"/>
            <a:ext cx="33465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762120" y="2209680"/>
            <a:ext cx="761760" cy="1508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523880" y="22096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 flipV="1">
            <a:off x="2971800" y="762120"/>
            <a:ext cx="685800" cy="145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0"/>
          <p:cNvGraphicFramePr/>
          <p:nvPr/>
        </p:nvGraphicFramePr>
        <p:xfrm>
          <a:off x="76320" y="4572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1"/>
          <p:cNvGraphicFramePr/>
          <p:nvPr/>
        </p:nvGraphicFramePr>
        <p:xfrm>
          <a:off x="3048120" y="312408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12"/>
          <p:cNvSpPr/>
          <p:nvPr/>
        </p:nvSpPr>
        <p:spPr>
          <a:xfrm>
            <a:off x="1526400" y="18288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 rot="17795400">
            <a:off x="587160" y="27691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380880" y="3352680"/>
          <a:ext cx="25416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3526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20"/>
          <p:cNvGraphicFramePr/>
          <p:nvPr/>
        </p:nvGraphicFramePr>
        <p:xfrm>
          <a:off x="380880" y="1066680"/>
          <a:ext cx="282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066680"/>
                    <a:ext cx="282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Line 21"/>
          <p:cNvSpPr/>
          <p:nvPr/>
        </p:nvSpPr>
        <p:spPr>
          <a:xfrm>
            <a:off x="685800" y="1523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68580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1143360" y="129528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114800" y="380880"/>
            <a:ext cx="47242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.  При нагревании  увеличивается  температур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.  Скорость колебания частиц  возраст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3. Увеличивается внутренняя энергия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4.  Когда тело нагревается до температуры плавления, кристаллическая решетка начинает разруш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5.  Энергия нагревателя идет на разрушение решетки крис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990720" y="22096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129528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304920" y="4343400"/>
            <a:ext cx="8624880" cy="947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мпературу, при которой вещество плавится, называют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температурой плавления веществ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304920" y="5410080"/>
            <a:ext cx="8624880" cy="9471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ждое вещество имеет собственную температуру плавления  (стр.3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 rot="17795400">
            <a:off x="2720880" y="13975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На рисунке показан график изменения температуры некоторого вещества.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Что это за веще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376880"/>
          </a:xfrm>
          <a:prstGeom prst="rect">
            <a:avLst/>
          </a:prstGeom>
          <a:ln w="25560">
            <a:solidFill>
              <a:srgbClr val="cc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352680" y="1828800"/>
            <a:ext cx="4953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5181480"/>
          </a:xfrm>
          <a:prstGeom prst="rect">
            <a:avLst/>
          </a:prstGeom>
          <a:ln w="25560">
            <a:solidFill>
              <a:srgbClr val="cc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76200" y="53352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Какие вещества изображены на рисунк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2"/>
          <p:cNvSpPr/>
          <p:nvPr/>
        </p:nvSpPr>
        <p:spPr>
          <a:xfrm flipV="1">
            <a:off x="762120" y="45684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 flipV="1">
            <a:off x="457200" y="2971800"/>
            <a:ext cx="33465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 flipV="1">
            <a:off x="762120" y="2209680"/>
            <a:ext cx="761760" cy="1508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523880" y="22096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2971800" y="762120"/>
            <a:ext cx="685800" cy="145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0"/>
          <p:cNvGraphicFramePr/>
          <p:nvPr/>
        </p:nvGraphicFramePr>
        <p:xfrm>
          <a:off x="76320" y="4572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1"/>
          <p:cNvGraphicFramePr/>
          <p:nvPr/>
        </p:nvGraphicFramePr>
        <p:xfrm>
          <a:off x="3048120" y="312408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12"/>
          <p:cNvSpPr/>
          <p:nvPr/>
        </p:nvSpPr>
        <p:spPr>
          <a:xfrm>
            <a:off x="1450440" y="18288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 rot="17795400">
            <a:off x="587160" y="284544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6"/>
          <p:cNvGraphicFramePr/>
          <p:nvPr/>
        </p:nvGraphicFramePr>
        <p:xfrm>
          <a:off x="1219320" y="533520"/>
          <a:ext cx="2057400" cy="71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533520"/>
                    <a:ext cx="2057400" cy="715680"/>
                  </a:xfrm>
                  <a:prstGeom prst="rect">
                    <a:avLst/>
                  </a:prstGeom>
                  <a:ln w="255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1" name="Object 18"/>
          <p:cNvGraphicFramePr/>
          <p:nvPr/>
        </p:nvGraphicFramePr>
        <p:xfrm>
          <a:off x="380880" y="3352680"/>
          <a:ext cx="254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3526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20"/>
          <p:cNvGraphicFramePr/>
          <p:nvPr/>
        </p:nvGraphicFramePr>
        <p:xfrm>
          <a:off x="380880" y="1066680"/>
          <a:ext cx="28260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1066680"/>
                    <a:ext cx="282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21"/>
          <p:cNvSpPr/>
          <p:nvPr/>
        </p:nvSpPr>
        <p:spPr>
          <a:xfrm>
            <a:off x="685800" y="1523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68580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4114800" y="380880"/>
            <a:ext cx="4724280" cy="5700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ая величина, показывающая какое количество тепл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обходимо для превращения 1 кг кристаллического веще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зятого при температуре плавления, в жидкость той же температуры, называетс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удельной теплотой пл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стр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1143360" y="137160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990720" y="22096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129528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80880" y="4191120"/>
            <a:ext cx="3581640" cy="19227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455040" y="441972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бознач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2207520" y="419112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(«ламбд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455040" y="5181480"/>
            <a:ext cx="25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Единица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1"/>
          <p:cNvGraphicFramePr/>
          <p:nvPr/>
        </p:nvGraphicFramePr>
        <p:xfrm>
          <a:off x="2971800" y="5029200"/>
          <a:ext cx="665280" cy="79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9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1800" y="5029200"/>
                    <a:ext cx="6652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На рисунке изображены графики зависимости изменения температуры от времени двух тел одинаковой массы.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У какого из этих тел выше температура плавления?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У какого тела больше удельная теплота плав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447920" y="22096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41008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447920" y="4191120"/>
            <a:ext cx="1981080" cy="12189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4191120"/>
            <a:ext cx="22860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715000" y="2590560"/>
            <a:ext cx="1828800" cy="1600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7920" y="3047760"/>
            <a:ext cx="2590560" cy="2361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304812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213372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8760" y="502920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276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4360" y="2971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9360" y="2286000"/>
            <a:ext cx="8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1"/>
          <p:cNvSpPr/>
          <p:nvPr/>
        </p:nvSpPr>
        <p:spPr>
          <a:xfrm rot="16200000">
            <a:off x="3993120" y="1797120"/>
            <a:ext cx="1081080" cy="1447920"/>
          </a:xfrm>
          <a:prstGeom prst="downArrow">
            <a:avLst>
              <a:gd name="adj1" fmla="val 50000"/>
              <a:gd name="adj2" fmla="val 33483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4038480"/>
            <a:ext cx="838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04920" y="3657600"/>
            <a:ext cx="845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. 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04920" y="5181480"/>
            <a:ext cx="883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. Изменяются ли молекулы вещества при кристалл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04920" y="5562720"/>
            <a:ext cx="883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6. Как изменяется температура вещества при отвердев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жидкость"/>
          <p:cNvPicPr/>
          <p:nvPr/>
        </p:nvPicPr>
        <p:blipFill>
          <a:blip r:embed="rId1"/>
          <a:stretch/>
        </p:blipFill>
        <p:spPr>
          <a:xfrm>
            <a:off x="838080" y="1752480"/>
            <a:ext cx="2743200" cy="1830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твердое тело1"/>
          <p:cNvPicPr/>
          <p:nvPr/>
        </p:nvPicPr>
        <p:blipFill>
          <a:blip r:embed="rId2"/>
          <a:srcRect l="4725" t="7559" r="5669" b="6047"/>
          <a:stretch/>
        </p:blipFill>
        <p:spPr>
          <a:xfrm>
            <a:off x="5562720" y="1752480"/>
            <a:ext cx="2819160" cy="18320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304920" y="480060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. Когда тело начнет кристаллизова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457200" y="152280"/>
            <a:ext cx="8185320" cy="140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Кристаллизация -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ход вещества из жидкого состояния в 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4197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04920" y="59436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7. Сравните внутреннюю энергию жидкости и твёрдого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066680" y="2209680"/>
            <a:ext cx="2233800" cy="5032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Жидк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тдает  энерг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5638680" y="1981080"/>
            <a:ext cx="2667240" cy="11912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утренняя энергия кристал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меньш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рахман И.Д.</dc:creator>
  <dc:description/>
  <dc:language>en-US</dc:language>
  <cp:lastModifiedBy>Sergey</cp:lastModifiedBy>
  <dcterms:modified xsi:type="dcterms:W3CDTF">2012-02-20T14:58:06Z</dcterms:modified>
  <cp:revision>43</cp:revision>
  <dc:subject>Плавление и кристаллизация</dc:subject>
  <dc:title>ФАЗОВЫЕ ПЕРЕХО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